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etsgostate.wav" ContentType="audio/x-wav"/>
  <Override PartName="/ppt/media/image2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677-1148-4E7B-9ADE-DFED5014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655-5C35-4E32-B458-8207BDD1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2BD-C93A-440E-B605-4922CC09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A71-5B16-4D64-97DC-A085C12B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AA2D-C05E-4280-9241-8725CD9F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74ED-D470-40D2-994B-35BACDD3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2D0F-CF01-44B7-8FB9-8FDE7501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2AA6-1A4E-4471-B0B5-88156404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2B78-6D61-4E0B-B859-C6EAFE47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832B-D868-4EBC-9334-42E7A7A1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1F57-D30D-4976-B1B8-16FE90F8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2F8-D9BA-41CA-B446-0A77B249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CE01-0449-43C3-B936-BA63C811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8229-0128-42C9-8FD3-69F7419F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AF09-2871-4386-A0DC-2FD4AF48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549D-FDA4-42A6-962B-9B6704A8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6F40-6997-4F55-B608-0FDD8DDC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F97D-ECA1-45A6-A843-6B23792D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5A0-8E85-4729-A901-7B61601A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FF4-A973-4056-A73F-8E1085EF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43C-E642-46A8-9DEE-C1FB6314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A22-329A-4C2A-98F9-2098099E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ACD-5777-477D-8D3B-492CC02F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AD5-A2DF-4C5F-97BD-C2B385FF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9F8D-EF89-4654-9847-8FCDFE47A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C8E0-8A87-473E-B750-02249197E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etsgostat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Orientation Top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160" y="18284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6. Be “resource”-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7. Choose your att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8. Priorit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9. It’s all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10. You’ve got a clean s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Orientation Top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2. Parents, be supportiv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3. Get to know one faculty member     per sem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4. Pump up your resume: Get In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5. Meet new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Orientation Top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2819520"/>
            <a:ext cx="8991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199"/>
              </a:spcBef>
              <a:buClr>
                <a:srgbClr val="66cc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WE ARE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ENN STAT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etsgosta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06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-5335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7099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" nodeType="withEffect" fill="hold" presetClass="mediacall" presetID="1">
                                  <p:stCondLst>
                                    <p:cond delay="6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7099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mediacall" presetID="1">
                                  <p:stCondLst>
                                    <p:cond delay="13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7099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13:22:14Z</dcterms:created>
  <dc:creator>kxj10</dc:creator>
  <dc:description/>
  <dc:language>en-US</dc:language>
  <cp:lastModifiedBy>Stephen Sokolowski</cp:lastModifiedBy>
  <cp:lastPrinted>1999-12-22T15:05:05Z</cp:lastPrinted>
  <dcterms:modified xsi:type="dcterms:W3CDTF">2003-07-15T18:31:53Z</dcterms:modified>
  <cp:revision>61</cp:revision>
  <dc:subject/>
  <dc:title>Next Steps</dc:title>
</cp:coreProperties>
</file>