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etsgostate.wav" ContentType="audio/x-wav"/>
  <Override PartName="/ppt/media/image2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0B2-8667-4B79-8E92-0D62060A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03A1-C21B-4CAB-9D7B-F38857DA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32C-02C2-446E-896A-ABC91314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29A-F08B-4452-BAD2-5C3DB6BC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00B7-5141-447B-88B8-82E9CFF4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755D-9E1A-45A5-945D-72ED03F7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1E88-2C7E-4F30-A08E-4FFD2286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032A-E4D6-4868-9709-87C02E10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E791-319C-4F08-9BF7-1732429C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0D29-325E-4ACF-9C8E-C4B5CAA9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1ECF-F92A-4803-8D47-7159B378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069-EE86-4F0F-AA70-8625E51C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8CE7-E9CD-453F-91FC-2C92597B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A98B-FA4B-475D-B2DA-5720E6A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DCAF-5EB1-40B6-8B99-5CAC84F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0CD7-AC63-4E22-9550-E4652FD2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13ED-C0CD-47A3-9DA4-9A68DC36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4F7-CD54-42F4-B4AB-05893783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634-2463-455E-BC7B-6AEC3680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C01-88C6-4850-83FE-308ECDE5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C68-4B58-427F-8D6D-8F453D94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ED57-8C24-49CC-8046-811247A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F62-ADA6-4616-9750-1C63485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2E6-0869-4497-BD50-524D605E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9686-937C-41A1-87FD-3F44C09C0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089C-BCA4-4F34-8E57-72261B701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etsgostat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Orientation Top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18284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6. Be “resource”-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7. Choose your att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8. Priorit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9. It’s all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10. You’ve got a clean s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Orientation Top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2. Parents, be supportiv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3. Get to know one faculty member     per sem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4. Pump up your resume: Get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5. Meet new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Orientation Top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2819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99"/>
              </a:spcBef>
              <a:buClr>
                <a:srgbClr val="66cc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WE ARE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ENN STAT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etsgosta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6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7099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6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7099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13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099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13:22:14Z</dcterms:created>
  <dc:creator>kxj10</dc:creator>
  <dc:description/>
  <dc:language>en-US</dc:language>
  <cp:lastModifiedBy>Stephen Sokolowski</cp:lastModifiedBy>
  <cp:lastPrinted>1999-12-22T15:05:05Z</cp:lastPrinted>
  <dcterms:modified xsi:type="dcterms:W3CDTF">2003-07-15T18:31:53Z</dcterms:modified>
  <cp:revision>61</cp:revision>
  <dc:subject/>
  <dc:title>Next Steps</dc:title>
</cp:coreProperties>
</file>